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D7D94-D047-46B5-87C6-9AA57C7F4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01EDB-2D36-44F0-B7DF-6C45C2950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A93B0-B3B7-4C6B-BD56-2B3AA6859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20422-ECBA-41D1-8299-11864F35D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EE49C-E04C-4265-8D48-33C05BFE6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F4E9E-480F-4915-A200-D049CADAC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B5E58-3B5A-4BCA-BBDA-E9808A1C7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24A8D-3D3C-459A-88CD-B885128F2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2D1C8-5027-447D-8744-F47E398DC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6A3B8-D6AB-4CDD-AB9D-E254949BE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64744-DFED-4407-9D86-22A1A2450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46D07-56FB-4781-A3A0-5D961E3AE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37F05-5FB2-4A78-A015-F3234D45A07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mbedded Ob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161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slide contains an embedded objec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is a simple harmless ASCII text fi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Object 2" descr=""/>
          <p:cNvPicPr/>
          <p:nvPr/>
        </p:nvPicPr>
        <p:blipFill>
          <a:blip r:embed="rId1"/>
          <a:stretch/>
        </p:blipFill>
        <p:spPr>
          <a:xfrm>
            <a:off x="3132000" y="3860640"/>
            <a:ext cx="2955960" cy="12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1-18T13:13:30Z</dcterms:created>
  <dc:creator>user</dc:creator>
  <dc:description/>
  <dc:language>en-US</dc:language>
  <cp:lastModifiedBy>user</cp:lastModifiedBy>
  <dcterms:modified xsi:type="dcterms:W3CDTF">2018-01-18T13:15:08Z</dcterms:modified>
  <cp:revision>1</cp:revision>
  <dc:subject/>
  <dc:title>Embedded Objects</dc:title>
</cp:coreProperties>
</file>